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6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2C0FB-BDE6-4F48-B6BC-3A45B9D3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C5D0E-F096-453B-B3FD-96EBB4B0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477EC-E84C-4CC3-A446-6F643128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6DCC7-F2E1-42D1-8538-0E2B1907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392A-FF04-43F6-894D-E410A743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FB2C-FA2D-403F-9743-4E049AA5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26E2-DADC-4246-8693-6706F518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2A34-7884-4142-AD57-AFF5207A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123F-6A2D-488B-965B-31A9B94C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19FB-CA7E-4BB3-9F70-0A49147F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5988-5716-4E61-B7CC-24157429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D5F1D-6F18-4CA3-9F17-10507BAD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964D-C7E1-4F00-B907-642223FF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D38B-95AC-4815-A4E8-85782005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3094-5850-4BF3-A31A-A065E6D4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6845-FC4C-434B-8102-25EA87E1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A81C-A209-469C-9BD1-6A6D93C4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3CF3C-B466-4C7E-9574-6E22DC12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68F80-892C-4BEE-B1C3-08F1D569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E0D39-F5DD-4709-9029-20168CDD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207D5-4DC2-4B42-8894-0145BF58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702B8-3870-4D39-9F4C-509682E1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A1457-F6AA-42AE-BDA0-2E6DD9DB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AF214-1D14-4CC3-A0BC-7FC6D06C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E630-2A2B-4115-BAF8-C794ACC1D50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2E49-E851-464C-852F-D0297AE3E02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tutorial.teachtci.com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Facing Slaver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istory Aliv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553080" y="1905120"/>
            <a:ext cx="2305080" cy="3047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frican Woman with a Basket on Her Head - Royalty Free Clipart Picture"/>
          <p:cNvPicPr/>
          <p:nvPr/>
        </p:nvPicPr>
        <p:blipFill>
          <a:blip r:embed="rId2"/>
          <a:stretch/>
        </p:blipFill>
        <p:spPr>
          <a:xfrm>
            <a:off x="762120" y="1981080"/>
            <a:ext cx="19224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 Would You Do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uss Critical Thinking Question A, and record group’s choice and reasoning after number 3 on your reading no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 ready to present your choice and reasoning to the cla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kids chos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: Refuse to sell sla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: Raid other villages and kidnap others to 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: Trade your own servants, prisoners, and crimin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 did they do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 section 8.4 and record notes to see how the Africans actually responded to the European Slave Trader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ilemma 2: The Middle Passag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668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do you se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do you see drawn on each imag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o may have drawn this imag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 would you feel in these conditions?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w do you think the Africans responded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5562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ilemma 2: The Middle Passag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 section 8.5 and record no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 Would You Do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 Discussion: Critical Thinking 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 ready to present your choice and reasoning to the cla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kids would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use to ea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y to organize a revol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y to keep your strength for survival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 Did They Do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 section 8.6 and record notes to see how the Africans actually responded during the Middle Passage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ilemma 3: Arrival in Americ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29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do you se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are the people doing?  Wh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might the man on the horse b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do you think the enslaved Africans responded to this situati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9880" y="1566720"/>
            <a:ext cx="4953240" cy="35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ilemma 3: Arrival in America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 8.7 and record your thoughts onto your reading no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 Would You Do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group will discuss Critical Thinking C and record answers onto reading no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ready to present your choice and reasoning to the cla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kids would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n away and risk being caugh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retly resist slavery by breaking tools and working slowl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ork hard and hope to be treated well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 Did They Do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 section 8.8 and record notes to see how the Africans actually responded to life in America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ctivate Prior Knowledg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8584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 dilemma is a situation that requires you to make a decision, but you do not like any of the choi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You must eat a vegetable with dinner, and you choices are Brussels Sprouts or Cauliflower.  You hate bot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You must do house chores, and your choices are raking the leaves or picking up after the do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43000" y="2897280"/>
            <a:ext cx="1720800" cy="2808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466560" cy="571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466560" cy="571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438280" y="1523880"/>
            <a:ext cx="466920" cy="571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2971800" y="2209680"/>
            <a:ext cx="46656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4665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hapter Assessmen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 to </a:t>
            </a: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://tutorial.teachtci.com/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for an online assess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er your name, and select chapter 8:Facing Slavery from the sideb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Your Turn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your journal, copy and complete the following sentence starter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 One dilemma I have faced was when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 I chos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 …becaus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952880" y="3809880"/>
            <a:ext cx="25624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hapter Vocabular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Enslaved Africans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ople from Africa that were forced to work for a “maste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Middle Passage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voyage of slave traders from Africa to Amer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Plantations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Large farm with slaves who live on that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Slave Auction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ale of a slave to the highest bid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Overseer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erson who was in charge of the slave 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Three Dilemmas Faced by Enslaved Africans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4266720"/>
            <a:ext cx="78487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 section 8.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 you se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cate each of the places on your world ma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es the drawing represen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Dilemma 1: European Slave Trade in West Africa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8.2:“West Africa in the 1500s” and discuss the following ques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were the Africans simila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were they differen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you think their culture more alike or different than that of the European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 Slaver’s Cano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do you se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would you describe the people sitting in the cano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do you think is happe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y might the people sitting in the canoe be sa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86200" y="2133720"/>
            <a:ext cx="487692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Dilemma 1: The European Slave Trade in West Africa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 we will learn about the Africans and how they faced a series of dilemmas after they encountered slave trad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09680" y="3124080"/>
            <a:ext cx="4267440" cy="26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Dilemma 1: The European Slave Trade in West Africa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d section 8.3 and record notes to question 1 in bulleted form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6:59:43Z</dcterms:created>
  <dc:creator>CCPS</dc:creator>
  <dc:description/>
  <dc:language>en-US</dc:language>
  <cp:lastModifiedBy>CCPS</cp:lastModifiedBy>
  <dcterms:modified xsi:type="dcterms:W3CDTF">2009-11-11T19:34:32Z</dcterms:modified>
  <cp:revision>14</cp:revision>
  <dc:subject/>
  <dc:title>Slide 1</dc:title>
</cp:coreProperties>
</file>